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67343"/>
        <c:axId val="99509930"/>
      </c:barChart>
      <c:catAx>
        <c:axId val="32267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09930"/>
        <c:crosses val="autoZero"/>
        <c:auto val="1"/>
        <c:lblAlgn val="ctr"/>
        <c:lblOffset val="100"/>
        <c:noMultiLvlLbl val="0"/>
      </c:catAx>
      <c:valAx>
        <c:axId val="99509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67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495-999D-4A14-895B-60D12AA2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50F-B145-4F34-B488-E2569879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339-031C-44A9-B2D0-39880DC9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56E-16C1-427B-A470-4915216A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025-41ED-4C43-980E-73CCF544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F7E-ADB6-46AB-8494-4AA91F15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9A0-9162-4644-A091-C551B8AF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F09-C1FF-470F-8D04-39B7256D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291-5688-4D46-9043-1F00D05D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342-242A-4053-8B03-AEC9B3C2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A2D-2B62-4993-AF31-BC5019CC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B2A-714B-43EF-9942-939E31B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E4D06-6366-4642-B9B3-51E953DAFB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