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4478314"/>
        <c:axId val="11476513"/>
      </c:barChart>
      <c:catAx>
        <c:axId val="9447831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476513"/>
        <c:crosses val="autoZero"/>
        <c:auto val="1"/>
        <c:lblAlgn val="ctr"/>
        <c:lblOffset val="100"/>
        <c:noMultiLvlLbl val="0"/>
      </c:catAx>
      <c:valAx>
        <c:axId val="114765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447831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D67AA-0EAF-48C2-B1EF-3AC78F42D2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F5DC9-EACC-4307-82C1-F3ED0B99C3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30EC03-5293-4987-A7D3-BA2439B039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C7D2C-2A98-4D90-B23F-A368CB9FD1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339EB-82EC-49AC-B219-444CC492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745A8-38FD-41F6-8F97-9783579F4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C3FB8-CC6F-4955-93B5-C5F27165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D51A0-579D-41B1-AE91-49F71CF160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AFBC3-AA1D-40E3-9DC6-DE63650395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86084-DC09-4B9B-8CB6-8992AFBB5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0B4CC-557E-4859-9907-662074EDA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741AF-B94E-434D-8348-1C674E605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85709A9-9F8C-4BF9-A714-E45060BBBEB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