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63884"/>
        <c:axId val="99780477"/>
      </c:barChart>
      <c:catAx>
        <c:axId val="67563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80477"/>
        <c:crosses val="autoZero"/>
        <c:auto val="1"/>
        <c:lblAlgn val="ctr"/>
        <c:lblOffset val="100"/>
        <c:noMultiLvlLbl val="0"/>
      </c:catAx>
      <c:valAx>
        <c:axId val="99780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63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599-E140-41A3-8ECD-908F0884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AA2-06AA-4602-B22E-0F6771EC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EDF-268F-4970-83B8-8E8BC15B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3D1-C899-49ED-8CB6-BA966A93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176-1158-4D53-A8C0-8D8F1CB3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098-CC93-460E-AC58-B27E0C80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5F9-0531-4C33-AB54-FA763D5E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A85-9489-45E1-84B4-C8484993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C47-5541-40AF-B240-CA275FF7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879-3814-45BB-952C-607CB3A6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522-0ADF-4AB6-BB17-20BB55FF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050-DE94-413E-90FF-AC78EC9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FFF2C-0A6A-4B04-9463-D983692403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