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33642"/>
        <c:axId val="27057684"/>
      </c:barChart>
      <c:catAx>
        <c:axId val="36233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57684"/>
        <c:crosses val="autoZero"/>
        <c:auto val="1"/>
        <c:lblAlgn val="ctr"/>
        <c:lblOffset val="100"/>
        <c:noMultiLvlLbl val="0"/>
      </c:catAx>
      <c:valAx>
        <c:axId val="27057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33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22A3-96D0-4B50-8ABC-BBE15360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5A0-339C-423E-A7B5-007450B8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91B-473D-4BE4-8493-86DB95C3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9135-7BAB-4135-92F4-97CA78AE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EEEF-0F78-4D37-A3D6-E4EA48F9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EFE-594C-475A-82CE-AA81727F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84F-5F53-481F-A5F7-16860F30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872-DE9E-4AC9-ACC5-30E9BF51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EB7-0662-4B15-A8F2-09B1872E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191-573D-451D-906A-A8D4F875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D483-5087-4FBF-ABD7-EBA67BB8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C64-9BA1-482D-AF2F-F79A2ABF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3D553-BDD2-4502-8F45-9EC66ECFD3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