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81087"/>
        <c:axId val="9704658"/>
      </c:barChart>
      <c:catAx>
        <c:axId val="94281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4658"/>
        <c:crosses val="autoZero"/>
        <c:auto val="1"/>
        <c:lblAlgn val="ctr"/>
        <c:lblOffset val="100"/>
        <c:noMultiLvlLbl val="0"/>
      </c:catAx>
      <c:valAx>
        <c:axId val="97046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81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B78E-DE49-420A-9BE4-33E3D4F0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FE1-95D2-4DB8-A90F-E43C5ADB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04A-766E-4F53-A5F3-B8F79845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42F2-493A-4BC8-82EA-58F0AF0D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3CE3-5EE0-4501-BC57-81EAB29F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AC3-6F1E-4C06-9A79-197B9CC3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506A-3738-45B9-9781-AD0D166F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BFD-2BF7-4328-85E5-B410DAD9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1656-8B39-44F7-AECE-7B493F0A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FF90-A90D-4850-A7B9-32E824E3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16A6-A82F-4A20-A067-63831AE3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7DF-D7DC-49E5-A886-EAB32C92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218EC-EF5C-4454-B704-EB5EA661A8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