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0606"/>
        <c:axId val="78352878"/>
      </c:barChart>
      <c:catAx>
        <c:axId val="8720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52878"/>
        <c:crosses val="autoZero"/>
        <c:auto val="1"/>
        <c:lblAlgn val="ctr"/>
        <c:lblOffset val="100"/>
        <c:noMultiLvlLbl val="0"/>
      </c:catAx>
      <c:valAx>
        <c:axId val="78352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B6E-4738-4B14-8AAF-9D6725B4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AB7-6272-438C-ABCF-DB3B1FDF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913-C433-441A-B418-09CE04F8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26A-CEDD-49F6-A43E-2927B79B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003-172D-4F40-A6B9-35D18E65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E3D-6084-48AC-85AE-776042D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4A2-FF5E-45A6-86FE-5F2E7B0B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EEB-76A6-46B2-9F95-63666D2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CD1-7875-4887-9E18-D550000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C6D-CBEB-47CD-997D-530BA92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D4B-26C8-45DA-8AFE-EBF4BCEE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513-D294-43AE-B00A-FB488C5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577A1-E077-460B-8D47-9079493B6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