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BA5BD-5BE0-4AEA-BA2F-A506CA753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1D452-F272-41B2-AA13-0DB5E3D14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38CBA-A11E-43C0-B712-797B69B82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C99F2-CF07-4A36-B1F5-326ECDB40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440C4-70DB-44CC-92EF-C73F074C1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F593B-C50D-4936-B3D7-5244FB88D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43172-A3F2-497D-9551-C15B7FF90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F648B-EC51-4FD9-8B08-59EB73C64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9AB0A-8841-487C-9B8B-F169C035C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2B24E-5992-440A-8BE9-35EB85D28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23710-CA6E-429F-B878-16C1673E5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022B4-A04E-46C3-88F1-5197BAA05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11957-3FF1-4C99-9136-3310C73A3C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3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4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6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I have embeded files in 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Object 4"/>
          <p:cNvGraphicFramePr/>
          <p:nvPr/>
        </p:nvGraphicFramePr>
        <p:xfrm>
          <a:off x="1214280" y="1428840"/>
          <a:ext cx="5943600" cy="96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1428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Object 5"/>
          <p:cNvGraphicFramePr/>
          <p:nvPr/>
        </p:nvGraphicFramePr>
        <p:xfrm>
          <a:off x="1071720" y="3714840"/>
          <a:ext cx="5943600" cy="969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71720" y="3714840"/>
                    <a:ext cx="5943600" cy="9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6"/>
          <p:cNvGraphicFramePr/>
          <p:nvPr/>
        </p:nvGraphicFramePr>
        <p:xfrm>
          <a:off x="5429160" y="285840"/>
          <a:ext cx="3205080" cy="240192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29160" y="285840"/>
                    <a:ext cx="320508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Object 7"/>
          <p:cNvGraphicFramePr/>
          <p:nvPr/>
        </p:nvGraphicFramePr>
        <p:xfrm>
          <a:off x="4714920" y="3643200"/>
          <a:ext cx="3424320" cy="25671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4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4920" y="3643200"/>
                    <a:ext cx="3424320" cy="25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0" name="Object 9"/>
          <p:cNvGraphicFramePr/>
          <p:nvPr/>
        </p:nvGraphicFramePr>
        <p:xfrm>
          <a:off x="1000080" y="500040"/>
          <a:ext cx="619200" cy="581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5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000080" y="50004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10"/>
          <p:cNvGraphicFramePr/>
          <p:nvPr/>
        </p:nvGraphicFramePr>
        <p:xfrm>
          <a:off x="2357280" y="357120"/>
          <a:ext cx="619200" cy="5810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5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357280" y="357120"/>
                    <a:ext cx="619200" cy="58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1T12:58:37Z</dcterms:created>
  <dc:creator>Nick Burch</dc:creator>
  <dc:description/>
  <dc:language>en-US</dc:language>
  <cp:lastModifiedBy>Nick Burch</cp:lastModifiedBy>
  <dcterms:modified xsi:type="dcterms:W3CDTF">2008-04-11T13:46:45Z</dcterms:modified>
  <cp:revision>2</cp:revision>
  <dc:subject/>
  <dc:title>I have embeded files in me</dc:title>
</cp:coreProperties>
</file>