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6A2A-FF3A-4FC2-861A-CB797045E9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Img"/>
          </p:nvPr>
        </p:nvSpPr>
        <p:spPr>
          <a:xfrm>
            <a:off x="0" y="6948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move the slid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DAA00-45C2-4E1F-A062-E2A7C52AA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BEFD3-6438-4C5E-ADF3-BE99CE0411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87301-82A4-45A9-A601-69C7412CBFE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3A032-9D06-493B-A230-F323E702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CCD55-8EFA-406F-9EFF-A3E2D2D2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C4ABE-FBB1-48FC-AEA6-57DDE64EDB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9D2EA4-03A8-462B-B03E-E5C2D9A7E2C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A6B919-B897-432A-A837-20FAB4654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5FD798-76A4-4ED5-8AB7-98905327B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9D8400-09AE-490E-A6FA-CA8511EC7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256DF4-F0E7-46A2-8E54-676BF601D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3D8FCC-3DD1-43EB-9A46-E6A5839FC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509A58-EFB6-4E39-B76B-1E49E0280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9D2B18-BDB9-4F7C-923C-23970524F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1EF171-05D4-46AC-8220-A92316AC2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EC7229-22DE-40D3-8224-87267F62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69BF2E-A087-4C57-AC56-F82B26887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84E9D3-6742-4289-9EE5-5298F60CD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580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55120" y="150444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276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580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55120" y="3982320"/>
            <a:ext cx="270396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DAC539-7238-4166-A133-4EE7360D81F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4992E-E08F-4B7F-93B6-FF8981CF3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5D7306-52F4-4E20-8CE0-531AB3499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F0D48-93A0-4E49-83AB-20BB29CE8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63560" y="75960"/>
            <a:ext cx="7143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1B596-71A5-4315-A412-1FCD06EB3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319CE1-7CD2-4EC4-876B-CDD198FBA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9560" y="398232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D8E60-FF68-4165-B35E-AF8A75831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7612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9560" y="1504440"/>
            <a:ext cx="409824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76120" y="3982320"/>
            <a:ext cx="8398080" cy="226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7FF7F-40B3-4AA9-8302-52E7BA3E7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E68D-DD1B-4283-8E29-2F6936E34021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029"/>
          <p:cNvSpPr/>
          <p:nvPr/>
        </p:nvSpPr>
        <p:spPr>
          <a:xfrm>
            <a:off x="1295280" y="6491160"/>
            <a:ext cx="655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4" name="Line 1035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036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Picture 9" descr="AFMOA Shield.JPG"/>
          <p:cNvPicPr/>
          <p:nvPr/>
        </p:nvPicPr>
        <p:blipFill>
          <a:blip r:embed="rId2"/>
          <a:stretch/>
        </p:blipFill>
        <p:spPr>
          <a:xfrm>
            <a:off x="463680" y="112680"/>
            <a:ext cx="961920" cy="94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Line 2"/>
          <p:cNvSpPr/>
          <p:nvPr/>
        </p:nvSpPr>
        <p:spPr>
          <a:xfrm>
            <a:off x="380880" y="645156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1270080" y="1233360"/>
            <a:ext cx="655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Century Schoolbook"/>
              </a:rPr>
              <a:t>Excellent Healthcare, Clinical Curr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380880" y="1231920"/>
            <a:ext cx="8382240" cy="0"/>
          </a:xfrm>
          <a:prstGeom prst="line">
            <a:avLst/>
          </a:prstGeom>
          <a:ln w="57240">
            <a:solidFill>
              <a:srgbClr val="0c2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4"/>
          <p:cNvSpPr/>
          <p:nvPr/>
        </p:nvSpPr>
        <p:spPr>
          <a:xfrm>
            <a:off x="0" y="5000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ir Force Medical Operations Agen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4" descr="AFMOA Shield.JPG"/>
          <p:cNvPicPr/>
          <p:nvPr/>
        </p:nvPicPr>
        <p:blipFill>
          <a:blip r:embed="rId2"/>
          <a:stretch/>
        </p:blipFill>
        <p:spPr>
          <a:xfrm>
            <a:off x="158760" y="3978360"/>
            <a:ext cx="2436840" cy="2404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276120" y="1504440"/>
            <a:ext cx="8398080" cy="47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392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0033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3"/>
          </p:nvPr>
        </p:nvSpPr>
        <p:spPr>
          <a:xfrm>
            <a:off x="-360" y="652428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As of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988040" y="6524280"/>
            <a:ext cx="1143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438D5-81C5-440A-BDA2-1EC013E953EE}" type="slidenum">
              <a:rPr b="0" lang="en-US" sz="1000" spc="-1" strike="noStrike">
                <a:solidFill>
                  <a:srgbClr val="969696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3DB2-93A2-4655-A3A7-D46E54D2E95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941480"/>
            <a:ext cx="83059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^^ Should see title above here^^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51c77"/>
                </a:solidFill>
                <a:latin typeface="Arial"/>
              </a:rPr>
              <a:t>Master Title Slid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63560" y="75960"/>
            <a:ext cx="714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151c77"/>
                </a:solidFill>
                <a:latin typeface="Arial"/>
              </a:rPr>
              <a:t>Bold italic title</a:t>
            </a:r>
            <a:endParaRPr b="1" i="1" lang="en-US" sz="3600" spc="-1" strike="noStrike">
              <a:solidFill>
                <a:srgbClr val="151c77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7988400" y="6524640"/>
            <a:ext cx="1143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889E9-D1F3-4300-8BD9-E7DD824CC0BD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0840" y="1366560"/>
            <a:ext cx="446544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today’s work environment, it can be a challenge to keep up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like you can’t get everything done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re you being pulled in multiple directions?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feel stressed or frustrated? 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9040" indent="-282600">
              <a:spcBef>
                <a:spcPts val="499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 you wish you had more time to hone your skills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ce you learn how to use the right tools, social media can help you save time and get smarter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141120" y="4830840"/>
            <a:ext cx="509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spcBef>
                <a:spcPts val="1001"/>
              </a:spcBef>
              <a:buClr>
                <a:srgbClr val="151c7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View the new briefing on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ersonal and Professional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to learn how you can benefit from online communities, collaboration and support groups, easy assess to information, recruiting and retention, human resource management, and thought-leadership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5448240" y="5899320"/>
            <a:ext cx="336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oter below page should rea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llent Healthcare, Clinical Curr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traight Connector 4"/>
          <p:cNvSpPr/>
          <p:nvPr/>
        </p:nvSpPr>
        <p:spPr>
          <a:xfrm flipH="1">
            <a:off x="140760" y="19447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traight Connector 12"/>
          <p:cNvSpPr/>
          <p:nvPr/>
        </p:nvSpPr>
        <p:spPr>
          <a:xfrm flipH="1">
            <a:off x="132840" y="248760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traight Connector 13"/>
          <p:cNvSpPr/>
          <p:nvPr/>
        </p:nvSpPr>
        <p:spPr>
          <a:xfrm flipH="1">
            <a:off x="142560" y="302904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14"/>
          <p:cNvSpPr/>
          <p:nvPr/>
        </p:nvSpPr>
        <p:spPr>
          <a:xfrm flipH="1">
            <a:off x="151920" y="334800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15"/>
          <p:cNvSpPr/>
          <p:nvPr/>
        </p:nvSpPr>
        <p:spPr>
          <a:xfrm flipH="1">
            <a:off x="186840" y="3908520"/>
            <a:ext cx="556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16"/>
          <p:cNvSpPr/>
          <p:nvPr/>
        </p:nvSpPr>
        <p:spPr>
          <a:xfrm flipH="1">
            <a:off x="213840" y="4778280"/>
            <a:ext cx="5565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17"/>
          <p:cNvSpPr/>
          <p:nvPr/>
        </p:nvSpPr>
        <p:spPr>
          <a:xfrm flipV="1">
            <a:off x="905040" y="1944360"/>
            <a:ext cx="0" cy="1963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26T18:38:01Z</dcterms:created>
  <dc:creator>BRUMLEY, JANET D LtCol USAF AFMOA AFMOA/SGHC</dc:creator>
  <dc:description/>
  <dc:language>en-US</dc:language>
  <cp:lastModifiedBy>Davies, Jared M.</cp:lastModifiedBy>
  <cp:lastPrinted>2001-11-16T21:52:41Z</cp:lastPrinted>
  <dcterms:modified xsi:type="dcterms:W3CDTF">2012-11-14T21:18:44Z</dcterms:modified>
  <cp:revision>689</cp:revision>
  <dc:subject/>
  <dc:title>No Slide Title</dc:title>
</cp:coreProperties>
</file>