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99671"/>
        <c:axId val="54402203"/>
      </c:barChart>
      <c:catAx>
        <c:axId val="85199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2203"/>
        <c:crosses val="autoZero"/>
        <c:auto val="1"/>
        <c:lblAlgn val="ctr"/>
        <c:lblOffset val="100"/>
        <c:noMultiLvlLbl val="0"/>
      </c:catAx>
      <c:valAx>
        <c:axId val="54402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9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A17-C643-4BA4-8362-F048C7C8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8AF-29FB-48D7-9CB1-203B543A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BFE-0DD6-49B0-90D1-F9565713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FE6-DDE5-4C76-940A-05181DEB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FEE-9C7F-4A03-8492-A1DA3733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4492-6399-422F-9AE7-9E2ACAF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34A-8071-4AFD-B84D-EC1D75FF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072-1EE4-4C0B-B2E6-AB52ED3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597-E852-4896-B575-BA34ECA7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969-B34E-43B7-B3EC-037C19EE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DFF-1643-4410-BC7C-8F4D546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0D2-0489-4B8F-A065-ED18A56F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37F65-17B7-4470-BF69-ECCB06E4D2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