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2343"/>
        <c:axId val="58049528"/>
      </c:barChart>
      <c:catAx>
        <c:axId val="8922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49528"/>
        <c:crosses val="autoZero"/>
        <c:auto val="1"/>
        <c:lblAlgn val="ctr"/>
        <c:lblOffset val="100"/>
        <c:noMultiLvlLbl val="0"/>
      </c:catAx>
      <c:valAx>
        <c:axId val="58049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4DB-2D07-48AC-AEC1-6DF0D865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FF1-E667-4CAE-89C2-06825066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100-E8FE-4410-9144-569BAA95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6F6-CCFD-4A34-B940-3E34483B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D02-06F9-4B1D-8AA7-EC6AE37C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805-0DFE-426B-A404-DD15D09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8B8-84BC-4E1B-8707-36A52BC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DCD-E63A-413A-BFB0-C9E2908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956-6963-43B0-A335-EEF2C32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C02-7020-4EC0-BB21-258204F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726-2D8C-46BE-A2E4-EC71CFE2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7E1-EAE6-4B64-AC98-33655AC7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82B48-6126-4AB7-B3C3-354C885E1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