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87436"/>
        <c:axId val="16248727"/>
      </c:barChart>
      <c:catAx>
        <c:axId val="69787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48727"/>
        <c:crosses val="autoZero"/>
        <c:auto val="1"/>
        <c:lblAlgn val="ctr"/>
        <c:lblOffset val="100"/>
        <c:noMultiLvlLbl val="0"/>
      </c:catAx>
      <c:valAx>
        <c:axId val="16248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87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0FD-EF03-4DB1-816A-3270AED7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694-C591-4E0C-8F0C-63DB8D1B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D61-6CBD-4100-85EE-B6199B52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FBB-0711-4B25-8FE5-26AB99B9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AD0-56CB-4BA6-81E0-5546931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ACC-7AEB-47E9-A495-46FA32C2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D54-1ADD-4BD4-A218-1FC1FBE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070-EDAA-4D9D-A9BD-D08ED91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451-4A4A-46BC-BE6C-95E5CF80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2CF-25B9-477A-8A08-043566F3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400-C7D9-4249-9E42-79CBF64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4D0-D95C-463F-98EA-EB16958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3D616-1B55-4275-8764-32D625540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