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24257"/>
        <c:axId val="43580776"/>
      </c:barChart>
      <c:catAx>
        <c:axId val="41524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80776"/>
        <c:crosses val="autoZero"/>
        <c:auto val="1"/>
        <c:lblAlgn val="ctr"/>
        <c:lblOffset val="100"/>
        <c:noMultiLvlLbl val="0"/>
      </c:catAx>
      <c:valAx>
        <c:axId val="43580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24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3C5-BD85-47BF-ACDB-69AE7949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242-79AF-4438-91EF-81CCB03B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270-9664-4D13-94BC-CA99BBA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E02-E7C5-49AE-A5DE-4DE4EE44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48F-0990-4878-A588-67E3034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32B-D145-42E8-945E-109BBA0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00D-0E8B-4850-8033-89C682C1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40E-3713-4408-A865-5CD3BD1C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9E0-18F7-4B0C-9280-0104F6C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7DB-0CBF-4F20-8AB2-1464881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492-1538-4848-AC4B-56CE1E9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568-972B-4A7F-A9E2-6CF54E9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CC3B-6A8A-40FB-9923-1E531562F8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