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68113"/>
        <c:axId val="14121088"/>
      </c:barChart>
      <c:catAx>
        <c:axId val="20368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21088"/>
        <c:crosses val="autoZero"/>
        <c:auto val="1"/>
        <c:lblAlgn val="ctr"/>
        <c:lblOffset val="100"/>
        <c:noMultiLvlLbl val="0"/>
      </c:catAx>
      <c:valAx>
        <c:axId val="14121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68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BCA-B7B3-4BBD-A746-6CCD1E67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E7D-4947-4B89-B01D-2E981B76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92E-61B6-45C1-9421-15A26B66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58E-DE0F-4EB4-AF24-233C0BA1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B8D-F3A6-4BD3-A43C-E6822310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AE4-CE05-42AA-9BB5-E3561DF9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5BD-1EE1-445A-AB95-D7CBA71F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6C0-5E69-4100-BEC1-6253C06C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8A6-54D3-4FB5-9CAC-D6F5F36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2A9-5C11-4EBF-B7F5-CEFB330E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9A3-2A8F-433F-8018-DC96B931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1AD-AB3C-4C5E-A7CA-F671C546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7A8EC-C571-4306-A0F5-0F0E6850FF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