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15157"/>
        <c:axId val="22936782"/>
      </c:barChart>
      <c:catAx>
        <c:axId val="29815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6782"/>
        <c:crosses val="autoZero"/>
        <c:auto val="1"/>
        <c:lblAlgn val="ctr"/>
        <c:lblOffset val="100"/>
        <c:noMultiLvlLbl val="0"/>
      </c:catAx>
      <c:valAx>
        <c:axId val="22936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5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54D-6FBB-42C8-B476-BF880790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24A-A7BE-44BC-AD38-7DFC96E3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05C-7D9A-4195-A884-2AA40E1E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240-A369-4675-AE10-727D8F3D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ECF-0ACF-4D80-8AF5-0809A567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49C-0A99-4CBB-A180-7A5F2C9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58D-C06E-4955-806C-27DF9071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5CC-378B-47B8-8B69-A071B6D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5D3-5653-4CED-BB58-48C4616E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1FF-23FB-40CC-9173-95BF99F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25C-66B5-4FCC-95A8-D22B839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84D-1B88-4DD2-83A4-BDCAFDD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6CAF-4B82-47FC-84DE-1BD3AD0707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