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292852"/>
        <c:axId val="42654417"/>
      </c:barChart>
      <c:catAx>
        <c:axId val="372928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654417"/>
        <c:crosses val="autoZero"/>
        <c:auto val="1"/>
        <c:lblAlgn val="ctr"/>
        <c:lblOffset val="100"/>
        <c:noMultiLvlLbl val="0"/>
      </c:catAx>
      <c:valAx>
        <c:axId val="426544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2928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214E-A68A-4BB1-8260-074EFD2B1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94F0-8FD4-4546-ADE3-30843822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271F-DE37-4EC2-A5FC-10A7AEA31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7C1E-B5BB-455F-B49D-7E4E5AF13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A7D2-EBD5-4D08-8EDA-28D1A77B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FD8E-92B6-4237-9828-9ACFFE24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CDD2-D4CD-4832-A115-BD548501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2667-56E5-4EA0-B107-A4A10833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84E6-6FBC-457B-8F6A-E2E04E54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A338-98A6-449B-8C33-CF765A2B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776C-BA02-48BA-875D-73D4F664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BF57-2F04-4E42-A5E5-EAA01BCB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94BF4E-9128-4387-BF51-718994C4F9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