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63131"/>
        <c:axId val="90957551"/>
      </c:barChart>
      <c:catAx>
        <c:axId val="63163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57551"/>
        <c:crosses val="autoZero"/>
        <c:auto val="1"/>
        <c:lblAlgn val="ctr"/>
        <c:lblOffset val="100"/>
        <c:noMultiLvlLbl val="0"/>
      </c:catAx>
      <c:valAx>
        <c:axId val="90957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63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C5F-F104-43E1-A97F-5699085B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121-743C-4A61-A5EC-5AA426A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F50-7183-4FB2-81D5-9BE81534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31A-6C77-4F1D-BF25-77C0DE67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C3F-494F-406B-BCC1-0D626B47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453-7414-45A1-9555-B29C1F3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29D-0873-43F0-8A1E-F318AE1F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712-6DA9-4485-9453-43DF3DF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890-1023-474C-BAF2-571F389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53C-2030-44D6-80D7-1AD0257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307-7B3C-41E4-B4E8-0BC0F63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EEF-3684-40FD-ACCB-9445ADF6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2B2C-3EFC-45E9-8417-8186F89D68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