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42961"/>
        <c:axId val="97592362"/>
      </c:barChart>
      <c:catAx>
        <c:axId val="60942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92362"/>
        <c:crosses val="autoZero"/>
        <c:auto val="1"/>
        <c:lblAlgn val="ctr"/>
        <c:lblOffset val="100"/>
        <c:noMultiLvlLbl val="0"/>
      </c:catAx>
      <c:valAx>
        <c:axId val="97592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42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449-DBB8-453B-A93C-8F449AD9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26F-03F2-41C9-B478-BEC6D5C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F22-F848-43D1-BEC4-21F87855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49B-4265-430F-9228-0E218676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D81-1204-46D3-8C7D-AB67F0D2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C54-64F0-4B09-83D7-2CD5D072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1FB-3468-4222-BDC4-391E41B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8C4-2DBF-4EE7-AF37-B4189C1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D4F-02DB-42E3-8F06-621C9B11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D04-EDA8-4BDF-BE92-63E828C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3B9-C57E-46B3-AF3C-74AA0664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577-1047-4DED-BFC2-D38A2C7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5B503-B586-4CFC-A02C-BC9A49069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