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8080789"/>
        <c:axId val="43960199"/>
      </c:barChart>
      <c:catAx>
        <c:axId val="9808078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960199"/>
        <c:crosses val="autoZero"/>
        <c:auto val="1"/>
        <c:lblAlgn val="ctr"/>
        <c:lblOffset val="100"/>
        <c:noMultiLvlLbl val="0"/>
      </c:catAx>
      <c:valAx>
        <c:axId val="4396019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08078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324A-6FC7-44D8-AD28-FB6D86A2C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7541-A669-4F2A-AD0D-DB42DE620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68E7-F2F1-431B-821B-7F1BC5656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8810-6526-4DB6-9A50-896CD08A3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929A-313E-42E8-8B44-EA70B300C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AFE2-07CF-426E-AECE-0E18A7041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5F27-ECEA-4CF6-BF84-D2A0D3DB8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878C-8EA2-46B4-A24D-C63CCDE95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E2BA-72AF-4B6D-AF10-BE7A85A16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1AE1-C0CE-45ED-A96B-D5FB0B0E6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7510-35D9-4E71-B3AC-FC223FA99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3F87-98BA-4F32-BFFA-5B7556388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35D61E-D622-4F30-96FF-6B8D43A9B22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