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037081"/>
        <c:axId val="92920220"/>
      </c:barChart>
      <c:catAx>
        <c:axId val="96037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20220"/>
        <c:crosses val="autoZero"/>
        <c:auto val="1"/>
        <c:lblAlgn val="ctr"/>
        <c:lblOffset val="100"/>
        <c:noMultiLvlLbl val="0"/>
      </c:catAx>
      <c:valAx>
        <c:axId val="92920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37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669-80D5-4F80-A651-ADF81C6C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44B6-93F5-4209-8C1A-D8ADAB5D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A030-E495-44D7-9E96-D161BFAB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C1D-F3B0-4546-9A89-420E6D8F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4DB-BF70-4C51-84F9-2CBCC62A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74D3-809C-447E-AD29-6501893D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122-D271-4265-9660-C0A75001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2D6-27A3-4953-AF94-B7A77529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0820-1CD3-4206-8C06-9FB1906B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297-12A3-4AE5-9067-6DE12B24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5E7-C582-4FFA-9B64-34CCC1E7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336-6FE6-4061-9363-4F0D2375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E9E35-2D69-44D7-AD6D-DB661D6215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