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58682"/>
        <c:axId val="6082834"/>
      </c:barChart>
      <c:catAx>
        <c:axId val="80758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2834"/>
        <c:crosses val="autoZero"/>
        <c:auto val="1"/>
        <c:lblAlgn val="ctr"/>
        <c:lblOffset val="100"/>
        <c:noMultiLvlLbl val="0"/>
      </c:catAx>
      <c:valAx>
        <c:axId val="6082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8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3BB-29E1-481A-9255-2633D8A7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3DF-74C1-4D99-9777-0A5EFF0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095-BD14-4966-892C-E1375AC0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3C0-6295-4637-A240-3E20095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042-6045-48F3-9598-4208681D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EDC-EE8F-44E1-833B-6E4BF5F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043F-1C7C-4F83-939C-3FC495BA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2E6-A64C-42AB-A550-8B79CF28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30C-BFB7-48EF-89EF-E898568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000-9B3D-45DC-83D4-01DC7B3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BB1-D04C-439A-9D9D-CF282FE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AC4-38F3-4C84-A682-42BAC6FF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4A93D-DA2E-4B10-99DB-1ADEE45F0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