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702218"/>
        <c:axId val="11222090"/>
      </c:barChart>
      <c:catAx>
        <c:axId val="757022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222090"/>
        <c:crosses val="autoZero"/>
        <c:auto val="1"/>
        <c:lblAlgn val="ctr"/>
        <c:lblOffset val="100"/>
        <c:noMultiLvlLbl val="0"/>
      </c:catAx>
      <c:valAx>
        <c:axId val="112220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7022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51A8-A579-4C87-8AC0-8C032899E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26DE-4454-4911-911F-EC04D8BE5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AA10-9BD1-4208-89F7-A7E5E9D63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4F0F-F7E7-48D0-A202-2D73043E2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5442-63E9-4086-82AC-DC030E2C1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4A56-9B26-4BA4-B238-9FB0EBA55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D026-859C-42FF-94CF-3F42431C2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2871-EE79-4410-BACB-E3C965CAF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09F1-78BD-47EB-956B-E84A71E20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3C0C-9FFB-43F4-8A67-2788ADCA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668B-E1DD-4285-9CA8-676F0E13D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BE54-3737-49AE-8133-702A96853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002776-E1A1-4AF1-8F68-131C87A8257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