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62109"/>
        <c:axId val="92497034"/>
      </c:barChart>
      <c:catAx>
        <c:axId val="47062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97034"/>
        <c:crosses val="autoZero"/>
        <c:auto val="1"/>
        <c:lblAlgn val="ctr"/>
        <c:lblOffset val="100"/>
        <c:noMultiLvlLbl val="0"/>
      </c:catAx>
      <c:valAx>
        <c:axId val="92497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2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582-9221-4EF5-AC49-E549E76D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A75-03CE-4F5C-BD71-5CC39CAB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107-B75B-4412-BD06-CCF1896F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FB8-1A72-471E-8F42-0AB8A55C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462-A611-4B83-B344-99382E9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9BC-BCC4-4383-8FEC-EAB1E78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8D8-0096-4A50-93F8-D1DBCDA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AB9-D98D-4918-B927-25237D1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66C-E3EA-4FF6-AFC5-C570DC60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4A3-9C83-438B-B71A-F01BCB8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5D1-0082-4A13-A7FB-4D0B370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0F4-2785-4C9B-A740-D1CC885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CC7A1-12CC-427E-A38A-9D20EE3AE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