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58333"/>
        <c:axId val="30902579"/>
      </c:barChart>
      <c:catAx>
        <c:axId val="33158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2579"/>
        <c:crosses val="autoZero"/>
        <c:auto val="1"/>
        <c:lblAlgn val="ctr"/>
        <c:lblOffset val="100"/>
        <c:noMultiLvlLbl val="0"/>
      </c:catAx>
      <c:valAx>
        <c:axId val="30902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8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D1B-CFE0-4A74-8519-A694E22F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2DA-8649-455C-9CCA-4F56BB45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098-900D-4F18-A5FC-5B18793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4EA-2E3B-4389-AC0B-9B68ADB9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72D-FC5E-4DC4-A896-A884C551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C35-BFD6-4663-AE18-76E166C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2AD-ECA7-44A7-8002-A8F18A5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0F2-7329-4DC3-9CFB-F9E9D198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321-3864-4F2B-9D30-8662A1F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433-A974-437A-8631-0D4CB4A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BE9-1D77-4E46-85BC-D18DC9C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560-C3D4-4DC5-AAFD-89B7C221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236E6-F2C5-482D-A32C-B29BC573E5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