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6503216"/>
        <c:axId val="11421148"/>
      </c:barChart>
      <c:catAx>
        <c:axId val="3650321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421148"/>
        <c:crosses val="autoZero"/>
        <c:auto val="1"/>
        <c:lblAlgn val="ctr"/>
        <c:lblOffset val="100"/>
        <c:noMultiLvlLbl val="0"/>
      </c:catAx>
      <c:valAx>
        <c:axId val="1142114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50321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B33A8-4047-4080-A5E4-01B9ACDAC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60177-B5D2-4888-984F-DE4841810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916F9-B17C-441A-9AD7-9F96C393A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06AA7-2BC2-4027-9019-780FBB300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0B012-F983-493D-84BE-F8A8BB7DD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3B69C-21E9-4533-A931-EBAEF25D2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E7AEE-82A7-4B47-A8AA-18980E11C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3A996-0EE7-498E-8F5F-7F1FF58B2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999FF-2D17-42D5-B8F4-59AB54C42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DDDFD-7D0B-44D1-8B38-909CFFC22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BFE20-AA52-4C47-B5AE-F676723B8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DBAB0-EA07-45DF-8036-2C2DC4035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F5F992-7260-4BDD-B918-9C9BEAD2CB1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