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49225"/>
        <c:axId val="19293149"/>
      </c:barChart>
      <c:catAx>
        <c:axId val="58649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93149"/>
        <c:crosses val="autoZero"/>
        <c:auto val="1"/>
        <c:lblAlgn val="ctr"/>
        <c:lblOffset val="100"/>
        <c:noMultiLvlLbl val="0"/>
      </c:catAx>
      <c:valAx>
        <c:axId val="19293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49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641-9073-48B1-8B8B-387DF508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EB3-3A10-4DBB-8DB9-A504CA48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B3B-15E7-4BBB-BE2B-162BBFB0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245-2D73-4D43-AA01-8DAC6636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6D5-7B97-48B0-A153-92C96D48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AE0-5638-485F-9BAC-CA8D504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5C6-256D-4D48-A39B-B56B4ED8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339-D4EA-420E-990A-EDBF9A0B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80A-2114-4656-9C01-BA80D916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FBC-2A06-44E7-8657-69792343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959-C884-44FE-871D-605AD25A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C99-A850-4B0F-ACCA-28B6B94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BB421-47A3-4A5E-835A-558EB41D85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