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7425"/>
        <c:axId val="16997283"/>
      </c:barChart>
      <c:catAx>
        <c:axId val="1417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97283"/>
        <c:crosses val="autoZero"/>
        <c:auto val="1"/>
        <c:lblAlgn val="ctr"/>
        <c:lblOffset val="100"/>
        <c:noMultiLvlLbl val="0"/>
      </c:catAx>
      <c:valAx>
        <c:axId val="16997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B4A-70C8-4801-A33B-1BFC4337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F0C-C632-4657-893C-AC862DBA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DF9-46FE-42EC-8043-D68CC2F2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E63-F802-4086-93C7-A1BA9AB0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2F3-49D4-4312-877A-FBD22DAB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795-5318-4730-9AE1-815D63AC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D0C-B372-43BB-BDEC-101FAE9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D74-F09D-4777-9838-16CBCED7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B7E-395F-44B6-8227-681A5E00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A3A-1C84-404D-B07A-D5FC0BB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2E0-380A-4D9C-B1F1-B83848F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69A-B810-410E-959A-F0F84D7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3A9D2-D645-44A7-80CD-3D02BF0FE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