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41843"/>
        <c:axId val="10237404"/>
      </c:barChart>
      <c:catAx>
        <c:axId val="73941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37404"/>
        <c:crosses val="autoZero"/>
        <c:auto val="1"/>
        <c:lblAlgn val="ctr"/>
        <c:lblOffset val="100"/>
        <c:noMultiLvlLbl val="0"/>
      </c:catAx>
      <c:valAx>
        <c:axId val="10237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41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C23-A917-445B-8850-728033E3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762-29CB-471A-A11D-E193025E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502-B3DB-462A-B67C-023F58AF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A28-8ABD-4A22-814A-E9BF2215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9F5-4D5E-45D3-B2C9-7FA43C8E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877-DAA9-4BFF-AE01-A97F1DD8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389-99D0-470D-AB81-7E24DB3B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E45-FCEA-444C-9833-67900002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AB7-A0F7-4396-9EDD-3C536D6E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03B-938D-4C4A-AFAE-0849368A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11E-F542-45CB-8E0B-23677BF2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E07-01A7-4074-A496-CD7E2201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3E355-7E31-4D52-99B8-C97705DD97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