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71841"/>
        <c:axId val="88777316"/>
      </c:barChart>
      <c:catAx>
        <c:axId val="57671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77316"/>
        <c:crosses val="autoZero"/>
        <c:auto val="1"/>
        <c:lblAlgn val="ctr"/>
        <c:lblOffset val="100"/>
        <c:noMultiLvlLbl val="0"/>
      </c:catAx>
      <c:valAx>
        <c:axId val="88777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71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D27-8D07-462E-99BE-14BE8482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DAF-B2B4-4D96-AE65-02E0600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534-9714-4514-87D0-D23AE039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291-0FEF-42B0-B700-D790E71A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CEF-0F15-48E2-BC17-E418EAA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79B-9DC9-4BDF-9BE1-E0D73B39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FE2-78E0-4E87-AB23-C7F340C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7BF-EA24-4211-B4E5-87B52FC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544-98FC-4791-BCB5-51B5A6B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22E-6A37-4B10-9341-BA54B7E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84A-3F58-4734-B700-ACE34CC0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AC8-7145-46CB-AC23-F4E2C8F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881F-D7CA-4ADD-A288-EAD8C817D0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