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81018"/>
        <c:axId val="71219797"/>
      </c:barChart>
      <c:catAx>
        <c:axId val="58481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19797"/>
        <c:crosses val="autoZero"/>
        <c:auto val="1"/>
        <c:lblAlgn val="ctr"/>
        <c:lblOffset val="100"/>
        <c:noMultiLvlLbl val="0"/>
      </c:catAx>
      <c:valAx>
        <c:axId val="71219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81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DE3-78C8-4506-B80C-FEA0D039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075-6DC5-4031-9C6D-4D3B4E8A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633-53CE-4C0E-B0A0-72451B37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A05-94F8-4270-89DD-BF47B78B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09A-A226-4088-9E6F-7AD3E19C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9EC-2CF5-4BE8-B1F7-903AD60F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244-FFA4-4612-8EE8-46DF7FBA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C9B-1A13-4CD9-A453-69E3F63D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9A4-B6AB-4458-A3E1-3C5A95CF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5D2-EA03-434E-BEC1-240CDF7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8CB-4AD4-4228-9F40-7E9665ED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B32-69E7-4974-AE52-EC2703CC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7F29F-48D1-4923-B91E-BF2FF65B4B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