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4572"/>
        <c:axId val="66076565"/>
      </c:barChart>
      <c:catAx>
        <c:axId val="65614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6565"/>
        <c:crosses val="autoZero"/>
        <c:auto val="1"/>
        <c:lblAlgn val="ctr"/>
        <c:lblOffset val="100"/>
        <c:noMultiLvlLbl val="0"/>
      </c:catAx>
      <c:valAx>
        <c:axId val="66076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4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356-AE42-4724-897C-B018A680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B0B-1714-4641-85F4-CC91A48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9CD-E157-4ADF-8A9B-1537C496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19E-5076-4CBD-8F8F-B33D7185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3B8-38F4-4E1F-A42A-308FC22D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F12-2B49-470B-8744-5FFF839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984-6005-4417-A562-3034B44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8CF-88E8-4C49-9D92-A58AED0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2B6-D18C-4107-81D9-94A90D5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ED4-80B5-4539-8253-2235BBBE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0C9-262D-4B61-844C-CD70C83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210-7FF9-49D2-9393-47D1930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4FFE6-3310-4470-A6E3-E5FCDCE3BC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