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34266"/>
        <c:axId val="20999521"/>
      </c:barChart>
      <c:catAx>
        <c:axId val="11734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99521"/>
        <c:crosses val="autoZero"/>
        <c:auto val="1"/>
        <c:lblAlgn val="ctr"/>
        <c:lblOffset val="100"/>
        <c:noMultiLvlLbl val="0"/>
      </c:catAx>
      <c:valAx>
        <c:axId val="20999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34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0EF-4AF1-4FC1-A7FA-C8CF55CC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12F-53C4-452B-961E-A81A5E2A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EDA-C11B-4B48-ADB6-C3EB6A6D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F4B-DBDB-4186-9F11-1E3D562E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D96-FBA8-4422-BBE6-7991F55D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116-975F-4EB5-8300-DFF65794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621-94A7-42D3-AB10-B74B264C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4F3-0770-42A6-9817-7B3B5C23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3FA-BF6A-471A-A275-1F348025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4EE-0B3D-4A66-BA5A-91F5ABE9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5FC-B758-43E5-B91F-6701B597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C92-83A4-44C6-A3CA-2FCDC801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16504-198A-4660-84D1-93B8760CAC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