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63047"/>
        <c:axId val="22810876"/>
      </c:barChart>
      <c:catAx>
        <c:axId val="46763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10876"/>
        <c:crosses val="autoZero"/>
        <c:auto val="1"/>
        <c:lblAlgn val="ctr"/>
        <c:lblOffset val="100"/>
        <c:noMultiLvlLbl val="0"/>
      </c:catAx>
      <c:valAx>
        <c:axId val="22810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3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01C-3CF9-4B32-9356-3B4AAD24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ADA-0617-41A9-A50E-33B89DD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6D7-0853-4AC5-BCFE-FB56C8EF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2EE-4CA9-4ABD-A712-E9541FCE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BFF-537E-4D7B-A507-EE43822D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2B0-EDD4-46BF-B004-1BB1957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5FD-7F3B-4990-955B-1074685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AEF-0D70-42BA-90DD-11332331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EFB-EEAC-45FE-83F1-B94F8F8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743-DCFE-4E06-8C07-E0D1914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520-090D-4707-8A30-A699AAB6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ECC-57C0-4928-AFD9-5128194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28874-100D-47EA-939C-9B1491F94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