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60920"/>
        <c:axId val="24534461"/>
      </c:barChart>
      <c:catAx>
        <c:axId val="70660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34461"/>
        <c:crosses val="autoZero"/>
        <c:auto val="1"/>
        <c:lblAlgn val="ctr"/>
        <c:lblOffset val="100"/>
        <c:noMultiLvlLbl val="0"/>
      </c:catAx>
      <c:valAx>
        <c:axId val="24534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60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92A-EA3D-45A4-8AE5-219E20E4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935-EBCB-442C-A9CF-68997385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3F5-1B08-49CE-BFF4-209407D8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1CC-3066-482F-8BE6-A3F72456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B7D-9B60-4E6F-8639-7BD7D46C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7CB-D91A-413F-B167-602DDD5B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986-5BCD-4EDE-8926-BC32B32D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8D1-4ECA-4CBE-86D5-A0C67DA6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079-1D8E-4558-BA81-D3E34CF2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35E-F8BA-4431-AA85-5FDDC4CF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D1B-A87F-46A7-A066-CB0D1198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6F4-A782-46D8-9163-5F56FB4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0339C-B9CE-4D07-8529-2660C9E70A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